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3D629-18CD-4E59-BAC3-5E9C2ADE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0C8D8-EFC9-40A0-8CC9-67E06134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51E4-5BE3-4A80-8F60-BD674927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CA41-C581-4E8B-82F6-9D76E433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0B7C-D1C5-4A66-A74D-E097F1D6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BE6B-A60B-446A-97E7-45686C7B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097E-A1DB-4C4C-AA23-601244FF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C189-A642-4BA4-9D7B-F2D2FAE4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84C2-3921-4ABB-9872-D053819C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5AEB-BA9C-450D-A4F8-378758AF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8BE6-FD3F-4754-A6C1-452ECEE1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DDBF-4F1D-4D45-A8B2-CFB8D6BD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5D2C-009B-4850-A4D5-8BBF8AA9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60D3-99E8-4658-BB34-7596F5DF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1F95-B5BA-4647-B1A0-36ADDB91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881B-C495-46E3-A742-0693E653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E1A0-F20E-47AD-A012-5669B487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27406-C0CD-46D9-B386-CAFB142F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98F7-A082-4307-A784-222BD770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D120-6972-42D1-B163-4A2E10CC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6E4A-B257-4CA3-BCD3-50AE9E4A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8C0CB-E80F-4768-897B-3EECF788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08C4B-B9E7-4321-9E38-40E6ABA4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5CAA0-BA3E-4498-B0E1-00DE7491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D30E-26EC-4BAB-BC5F-02C1019DD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BF43-B901-4FE7-9B1F-5A53313B57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00007d"/>
                </a:solidFill>
                <a:uFillTx/>
                <a:latin typeface="Arial"/>
              </a:rPr>
              <a:t>Тема урок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чните работу с нажатия кнопки Пу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95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8800" y="4568760"/>
            <a:ext cx="372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 информатике и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5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80"/>
                </a:solidFill>
                <a:uFillTx/>
                <a:latin typeface="Arial"/>
              </a:rPr>
              <a:t>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улова 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БОУ СОШ № 2031,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Практическая работа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«Запуск стандартных программ из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Главного мен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Запустите программу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бы запустить стандартную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ведите указатель мыши на кнопку Пуск на Панели задач и щелкните левой кноп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мыши к пункту Программы – откроется вложенное меню с перечнем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к пункту Стандартные – появится вновь вложенное меню с перечнем стандартных , часто используем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ужную программу Блокнот, и выберите ее щелчком левой кнопк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ус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анда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C5828-4DAC-4DD7-804B-7CAE068C6B2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. Запустите стандартную программу Калькулято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29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14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129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114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76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. Завершение работы с програм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Кальк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явлении окна сохранения документа, нажмит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18148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8C5C-30BC-47B8-BB42-4BC2A07B8FB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Итоги урока и Д/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акую тему рассматрив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нового вы 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ему науч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вам больше всего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/З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5 и определения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276720" cy="23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425B9-D9E0-4A3E-AAA7-6326494C2A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10120" y="3200400"/>
            <a:ext cx="3233880" cy="280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назначением и функциями Главного мен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ить запуск программ через Главное ме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D80F-E5A0-48C8-9355-B4E5FC0195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 урока и д/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3541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C58C-CB26-4091-84DE-E07C227586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619520" cy="3067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бочий ст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Рабочем сто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анели зада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е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ы знаете о кнопке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ус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C990C-D2B9-417F-8ACD-2FDAA7951A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Изуч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733920" cy="1040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опка Пуск располагается на Панели задач в левом нижнем уг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200400"/>
            <a:ext cx="4495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е действия начинаются с нажатия кнопки Пу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F314-E9E6-4D7C-8E68-ED158DD416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46720" y="228600"/>
            <a:ext cx="3797280" cy="5605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Щелкнув по кнопке Пуск открое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9718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657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86200"/>
            <a:ext cx="449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этого меню можно вызвать различные программы. При помощи программ создаются документы: тексты, рисунки,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4258-00FE-4A54-8049-85839FCA39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3733560" cy="586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496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пункте меню справа расположен значок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 этот пункт является заголовком еще одного 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687240" cy="718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971800" y="2514600"/>
            <a:ext cx="5562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0481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124080"/>
            <a:ext cx="3962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200400"/>
            <a:ext cx="4267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793FC-F87C-4C09-AE6C-F784D8F489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77320" cy="4408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содержимое появляется при выделении этого пункта. Такие меню называют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влож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крытым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ложен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895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43040" y="175248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34320" y="1752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E65DA-4BBE-4DA2-BE47-E654A27AE9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174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0492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того, кнопка Пуск позволяет грамотно завершить работу на компьютере, выбрав команд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вершение рабо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0CA80-CEDA-4E28-8897-F8D15D1772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</cp:lastModifiedBy>
  <dcterms:modified xsi:type="dcterms:W3CDTF">2012-04-13T07:39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